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ACB7-5625-4C9C-BA89-6E1FFBC1C9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0270-56BC-483B-85D7-8581604DE7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AA0-E905-4244-87C7-D6653B92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C18-28D3-4FE8-9A89-B4357AB0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2DF-371D-4AE8-A805-9691EEB8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1DA-146D-407E-B3EF-96E6AD33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764F-6CC2-43BC-A90F-37803748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EA9D-A04C-4765-9D08-6A5540A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17B6-0E91-4F5B-BB48-071F1015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D3B-E2FB-44DC-8BC5-B26CA1A7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A229-85E8-479D-AC1E-2CF4CF98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2E21-BDAF-4C59-9F20-7BD3B711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846A-E8B3-48E6-A8DF-CDEE8004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5F6-8BBF-4E34-AC2C-5ABC39BF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9BD6-2A07-44A4-9AA7-FE68237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F452-23AC-477F-AD84-31FD0577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0846-5E1E-45F8-AC77-60E0D6A3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FF76-44D2-4053-8FC8-F257A0F3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39D3-578E-4820-B840-BF6DF49D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A01C-0D06-4106-BD24-5C9858E5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6C8F-3B24-46EF-A66E-4EB235FB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4D42-68B6-4632-BEA9-68590118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B9BF-0F8B-4A6B-BECB-35059910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637C-709A-40EC-A26B-5DDAA1FF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054-6596-4BE9-9C25-C1953F2A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1F8B-2B51-4246-8E52-9179885B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C330-F10B-4207-80AB-C1C8135D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1FA7-1D9C-4978-ACD0-813B761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23E0-5BC7-4526-AACB-662CA31A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628F-7A55-4889-A5AF-C3E154B3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E6A1-C729-48F0-B709-EA9E7FC0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91B5-8909-4A49-B8FE-979065F4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EBDA-876F-4A04-A571-4396AC42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CEB2-FFDF-4328-A42A-E84119C8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E530-93EC-4A61-A430-B2B8ADD0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5CA-6F1C-4A66-A522-475D4C64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DA07-71CE-4BE8-A85A-93C3CAB9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F6AAC-8E44-4163-8F76-C289632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232B-F756-47F1-93DD-77A5AC74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EA362-ACEF-4385-9CC6-45004547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7D3F5-86EA-4E3F-862A-C9F24C63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35BB4-B8CF-48DD-85D0-DD5219B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92FC-1307-46F8-966F-6CE8DEA9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D25F-405B-4B3D-81E6-E06345F0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7C68-869C-4E41-BF83-E3993DD7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732EF-8588-4C6C-AD17-21651277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E8D-3A2C-4E8B-BCD8-06E430AD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9ED07-7558-4D5C-841F-D0AF9358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A8F4B-3EB5-4C19-9D9B-F9F03534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A01E-553E-45E0-8AFA-E3FD883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9436-8EB6-4B26-909E-024CB1E0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9C5B5-E525-4AAD-8A4B-E1151D6E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132CE-B92A-4ADD-BE7C-B8B8512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B7DA-AF6A-449D-9594-BC3D267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C4FE-5E66-49F4-BBB6-29E3CCC0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0747E-4CC2-4C0A-BC2D-DAFD71B3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B91F3-AE45-4C83-9FCE-62337F8B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801-3CBE-4FB2-B7FB-AD536CF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9FFA-8453-4902-A320-FFE5232D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F8956-A7E9-4A13-B67E-D8D2D65E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83681-8B05-465F-96ED-3FC74B00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BDB1C-66AD-4685-9927-37E2C057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439E7-BA92-41BB-9702-5F28FD65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67E8-5E0B-4EA1-B4C6-F12D5A9B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DEA89-C1F1-4C19-B10B-A6348A36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34406-C53B-4094-A662-882FE114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50AD3-EF7E-4975-8D6E-A943377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89E9D-D67A-4B4C-B7AB-93D8A754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8BF-DCC1-48F0-A2B6-EA468CED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3D7F3-C018-4256-8A94-952A8ED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73CC-521C-43B7-864D-5A91DD7E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58D0A-874F-4F0C-80B8-BFD7CDBA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6360-EA99-479D-A9D2-5980D581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2D960-751B-4026-AB1B-36B8717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57CEC-1E54-4053-B5C9-F6A4E15A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81483-DF5D-4CEB-A762-F4119828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E851-B8B9-40EA-AD6E-C065B05D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C84AB-531D-42F9-8079-DFAD9D28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3AA0-A6F3-4E17-BDFF-E015EE8B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DAC-057D-4276-BAEB-02514BFB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9C940-76D2-4431-A69E-7275F3B6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BF318-6638-47F3-B32F-BEDD3A4E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0CA2-68A8-4721-ADE0-9BB015CA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C2F8D-2C8D-4912-BDD6-4D391582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BE3D4-4356-4251-A759-106CBDF5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9D6-BA9F-4F09-A865-DAE0FAF7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B658-5FD9-4DDF-9EC4-2A9513D73A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338E-C4E8-453A-B5E0-5B53B6C840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2318-B73C-4D4D-9633-856F2FE1D0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1D93-1372-40B4-BBF0-0A3CC8ACD0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3E5C-12FE-4E0D-9F90-C2D93CED9B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54F8-239D-4A2F-B0CB-F0817A0E21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35C-2D3E-424E-ACBC-2E07CAC2772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&#1089;entr_nadejda@mail.ru" TargetMode="External"/><Relationship Id="rId2" Type="http://schemas.openxmlformats.org/officeDocument/2006/relationships/hyperlink" Target="mailto:&#1089;entr_nadejda@mail.ru" TargetMode="External"/><Relationship Id="rId3" Type="http://schemas.openxmlformats.org/officeDocument/2006/relationships/hyperlink" Target="http://bir-school9.ru/?p=342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xn--80abf6bcm1g.xn--p1ai/wp-content/uploads/2010/11/ris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стема работы с трудными детьм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916360" y="5357880"/>
            <a:ext cx="5937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пустина Людмила Борисовн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МБОУ «Ленская СОШ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2013 г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5" descr="G:\трудные дети\image.jpg"/>
          <p:cNvPicPr/>
          <p:nvPr/>
        </p:nvPicPr>
        <p:blipFill>
          <a:blip r:embed="rId1"/>
          <a:stretch/>
        </p:blipFill>
        <p:spPr>
          <a:xfrm>
            <a:off x="1285920" y="2286000"/>
            <a:ext cx="3571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ипичные ошибки у учителей в работе с «трудными» подростками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ращаться к ним «Дети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 ещё хуже «Дети! Вы должны…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ращаться к подростку по фамил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ричать, ругаться, передразнивать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рывать злость из-за другого на нё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ритиковать при других ученик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вижения «паразиты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рукоприкладство»  (толкают, щипают, и т.д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авила взаимодействия с девиантным ребенком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03280" y="1557360"/>
            <a:ext cx="72072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зитивный настро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верительное взаимодействи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убъективность взаимодейств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ление причин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ледовательность во взаимоотношениях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ощрение положительных изменен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влекательная альтернатив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умный компромисс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ндивидуальный подхо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вентив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Командный подход специалистов школы в решении проблем ребен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6" name="Picture 20" descr="img1"/>
          <p:cNvPicPr/>
          <p:nvPr/>
        </p:nvPicPr>
        <p:blipFill>
          <a:blip r:embed="rId1"/>
          <a:stretch/>
        </p:blipFill>
        <p:spPr>
          <a:xfrm>
            <a:off x="755640" y="2421000"/>
            <a:ext cx="7777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тапы осуществления коррекционной работ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42920" y="1827360"/>
            <a:ext cx="785016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формулировка социально-психологической и педагогической проблемы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ыдвижение гипотез о причинах девиантного поведения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диагностический этап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ыбор методов и технологий коррекционной работы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спользование методов, методик и технологий коррекционной работы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онтроль за ходом и эффективностью работы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1617"/>
                </a:solidFill>
                <a:latin typeface="Corbel"/>
              </a:rPr>
              <a:t>Формы и методы работы с «трудными» детьм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ставление социальных паспортов с целью выявления учащихся, имеющих отклонение от норм поведения, морали и пра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бота с детьми и родител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нтроль за посещением занятий с помощью ведения журнала учета пропусков занят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есная работа с учителями-предметник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филактика вредных привычек (встреча с инспектором ПДН, прокуратурой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влечение учащихся дивиантного поведения в различные виды положи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ести журнал на детей, которые состоят на учете, где отражать успеваемость, поведение, результаты бесед с ни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иагностические методи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Методика диагностики склонности к отклоняющемуся поведению (Е.Н. Орел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арта наблюдения Стотта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Методика определения индивидуальных копинг-стратегий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просники Ахенбаха (для учителей и родителей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Диагностика социально-педагогической запущенности детей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Методика оценки факторов риска и защиты от наркотиков в образовательном учреждении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 др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4" descr="G:\трудные дети\starshy-sjkolny-vozrast.jpg"/>
          <p:cNvPicPr/>
          <p:nvPr/>
        </p:nvPicPr>
        <p:blipFill>
          <a:blip r:embed="rId1"/>
          <a:stretch/>
        </p:blipFill>
        <p:spPr>
          <a:xfrm>
            <a:off x="3357720" y="4500720"/>
            <a:ext cx="3286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00040" y="442908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БОУ  АО «Центр психолого-педагогической реабилитации и коррекции «Надежда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63069, г. Архангельск, ул. Попова, 43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л. (8182) 20-18-3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л./ факс (8182) 20-62-8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/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adejda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cg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-mail: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с</a:t>
            </a:r>
            <a:r>
              <a:rPr b="0" lang="fr-FR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entr_nadejda@mail.r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bir-school9.ru/?p=342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Основная школа №9 г. Биробиджан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7" descr="Логотип Надежда_итог-11"/>
          <p:cNvPicPr/>
          <p:nvPr/>
        </p:nvPicPr>
        <p:blipFill>
          <a:blip r:embed="rId4"/>
          <a:stretch/>
        </p:blipFill>
        <p:spPr>
          <a:xfrm>
            <a:off x="3143160" y="1285920"/>
            <a:ext cx="28814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рудный ребёно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4" descr="Методы работы с трудными деть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77000" y="2276640"/>
            <a:ext cx="2846160" cy="4141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0352f12e9f49"/>
          <p:cNvPicPr/>
          <p:nvPr/>
        </p:nvPicPr>
        <p:blipFill>
          <a:blip r:embed="rId3"/>
          <a:stretch/>
        </p:blipFill>
        <p:spPr>
          <a:xfrm>
            <a:off x="395280" y="400536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75457203_81903"/>
          <p:cNvPicPr/>
          <p:nvPr/>
        </p:nvPicPr>
        <p:blipFill>
          <a:blip r:embed="rId4"/>
          <a:stretch/>
        </p:blipFill>
        <p:spPr>
          <a:xfrm>
            <a:off x="2124000" y="1557360"/>
            <a:ext cx="34894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рудный ребено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369800" y="1827360"/>
            <a:ext cx="384948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й он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4" descr="ff962c65118d"/>
          <p:cNvPicPr/>
          <p:nvPr/>
        </p:nvPicPr>
        <p:blipFill>
          <a:blip r:embed="rId1"/>
          <a:stretch/>
        </p:blipFill>
        <p:spPr>
          <a:xfrm>
            <a:off x="4932360" y="1989000"/>
            <a:ext cx="285768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3671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аботы учителе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8360" y="76464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ормальный среднестатистический ребенок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4" descr="DSC_0001"/>
          <p:cNvPicPr/>
          <p:nvPr/>
        </p:nvPicPr>
        <p:blipFill>
          <a:blip r:embed="rId1"/>
          <a:srcRect l="7290" t="0" r="0" b="0"/>
          <a:stretch/>
        </p:blipFill>
        <p:spPr>
          <a:xfrm>
            <a:off x="755640" y="1557360"/>
            <a:ext cx="3552840" cy="5111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DSC_0003"/>
          <p:cNvPicPr/>
          <p:nvPr/>
        </p:nvPicPr>
        <p:blipFill>
          <a:blip r:embed="rId2"/>
          <a:stretch/>
        </p:blipFill>
        <p:spPr>
          <a:xfrm>
            <a:off x="4641840" y="1557360"/>
            <a:ext cx="3835440" cy="51116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8"/>
          <p:cNvSpPr/>
          <p:nvPr/>
        </p:nvSpPr>
        <p:spPr>
          <a:xfrm>
            <a:off x="3071880" y="1571760"/>
            <a:ext cx="1214280" cy="914400"/>
          </a:xfrm>
          <a:prstGeom prst="rect">
            <a:avLst/>
          </a:prstGeom>
          <a:solidFill>
            <a:srgbClr val="a6a6a6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Прямоугольник 10"/>
          <p:cNvSpPr/>
          <p:nvPr/>
        </p:nvSpPr>
        <p:spPr>
          <a:xfrm>
            <a:off x="7072200" y="1571760"/>
            <a:ext cx="1428840" cy="1285920"/>
          </a:xfrm>
          <a:prstGeom prst="rect">
            <a:avLst/>
          </a:prstGeom>
          <a:solidFill>
            <a:srgbClr val="a6a6a6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96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боты учител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836640"/>
            <a:ext cx="442584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удный ребено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DSC_0002"/>
          <p:cNvPicPr/>
          <p:nvPr/>
        </p:nvPicPr>
        <p:blipFill>
          <a:blip r:embed="rId1"/>
          <a:stretch/>
        </p:blipFill>
        <p:spPr>
          <a:xfrm>
            <a:off x="539640" y="1557360"/>
            <a:ext cx="3976920" cy="5300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DSC_0004"/>
          <p:cNvPicPr/>
          <p:nvPr/>
        </p:nvPicPr>
        <p:blipFill>
          <a:blip r:embed="rId2"/>
          <a:stretch/>
        </p:blipFill>
        <p:spPr>
          <a:xfrm>
            <a:off x="4572000" y="1557360"/>
            <a:ext cx="3976560" cy="530064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8"/>
          <p:cNvSpPr/>
          <p:nvPr/>
        </p:nvSpPr>
        <p:spPr>
          <a:xfrm>
            <a:off x="7072200" y="1571760"/>
            <a:ext cx="1428840" cy="1285920"/>
          </a:xfrm>
          <a:prstGeom prst="rect">
            <a:avLst/>
          </a:prstGeom>
          <a:solidFill>
            <a:srgbClr val="a6a6a6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3071880" y="4286160"/>
            <a:ext cx="1428840" cy="1285920"/>
          </a:xfrm>
          <a:prstGeom prst="rect">
            <a:avLst/>
          </a:prstGeom>
          <a:solidFill>
            <a:srgbClr val="a6a6a6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Характеристики «трудного подростка»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6560" y="1557000"/>
            <a:ext cx="510228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примиримость к злу, готовность вступить в борьбу с несправедливостью и неумение разобраться в сложных явлениях жизн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емление к идеалу и негатив к воспитателя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желание самоутвердиться и неумение это сделат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лубокая необходимость в совете — и нежелание обратиться к старшему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воречие между богатством желаний и ограниченностью сил, опыта, возможностью для осуществления и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4" descr="G:\трудные дети\alcool-ethylique-112639_L.jpg"/>
          <p:cNvPicPr/>
          <p:nvPr/>
        </p:nvPicPr>
        <p:blipFill>
          <a:blip r:embed="rId1"/>
          <a:stretch/>
        </p:blipFill>
        <p:spPr>
          <a:xfrm>
            <a:off x="5643720" y="2928960"/>
            <a:ext cx="1571400" cy="2071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G:\трудные дети\tv_13114442d4bd3a4177cad5b1499c7f45.jpg"/>
          <p:cNvPicPr/>
          <p:nvPr/>
        </p:nvPicPr>
        <p:blipFill>
          <a:blip r:embed="rId2"/>
          <a:stretch/>
        </p:blipFill>
        <p:spPr>
          <a:xfrm>
            <a:off x="6643800" y="1214280"/>
            <a:ext cx="2333520" cy="1785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G:\трудные дети\i.jpeg"/>
          <p:cNvPicPr/>
          <p:nvPr/>
        </p:nvPicPr>
        <p:blipFill>
          <a:blip r:embed="rId3"/>
          <a:stretch/>
        </p:blipFill>
        <p:spPr>
          <a:xfrm>
            <a:off x="6715080" y="5214960"/>
            <a:ext cx="2190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Характеристики</a:t>
            </a: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трудного подростка»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28480" y="1356840"/>
            <a:ext cx="442260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казное отрицание авторитетов, увлечение идеальным и сомнение в том, что идеальное может быть в жизн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езрение к эгоизму, индивидуализму и чувствительное самолюби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желание много знать и поверхностное, легкомысленное отношение к учебе, к своим повседневным задания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омантическая восторженность и грубые выходки, моральное невежество, восхищение красотой и ироническое отношение к красо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2" descr="G:\трудные дети\5647bde37cc5842544d19e224e75766f.jpg"/>
          <p:cNvPicPr/>
          <p:nvPr/>
        </p:nvPicPr>
        <p:blipFill>
          <a:blip r:embed="rId1"/>
          <a:stretch/>
        </p:blipFill>
        <p:spPr>
          <a:xfrm>
            <a:off x="5786280" y="1285920"/>
            <a:ext cx="3071880" cy="2286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G:\трудные дети\kurenie-600x400.jpg"/>
          <p:cNvPicPr/>
          <p:nvPr/>
        </p:nvPicPr>
        <p:blipFill>
          <a:blip r:embed="rId2"/>
          <a:stretch/>
        </p:blipFill>
        <p:spPr>
          <a:xfrm>
            <a:off x="5715000" y="4143240"/>
            <a:ext cx="3214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Факторы, влияющие на возникновение девиантного поведе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99640" y="1557360"/>
            <a:ext cx="77122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иологические фа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сихофизиологические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зиологическ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сихологические фа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сихопатолог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кцентуа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циально-педагогические фа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ебной декомпенса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школьной дезадапта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циальной дезадапта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риминализации среды свободного времяпрепровожден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благополучие семь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исгармоничный стиль воспитательных и внутрисемейных отношени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стабильный, конфликтный стиль воспитательных влияни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социальный стиль отношений в дезорганизованной семье</a:t>
            </a:r>
            <a:r>
              <a:rPr b="0" lang="ru-RU" sz="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43280" y="1571760"/>
            <a:ext cx="41436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«Трудные» дети — это не просто дети, с которыми нам, взрослым, трудно, а это дети, которым трудно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2" descr="G:\трудные дети\77106171_large_3437689_smokinggirl_43.jpg"/>
          <p:cNvPicPr/>
          <p:nvPr/>
        </p:nvPicPr>
        <p:blipFill>
          <a:blip r:embed="rId1"/>
          <a:stretch/>
        </p:blipFill>
        <p:spPr>
          <a:xfrm>
            <a:off x="571680" y="642960"/>
            <a:ext cx="3800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3:11:53Z</dcterms:created>
  <dc:creator>Юля</dc:creator>
  <dc:description/>
  <dc:language>en-US</dc:language>
  <cp:lastModifiedBy>uzer</cp:lastModifiedBy>
  <dcterms:modified xsi:type="dcterms:W3CDTF">2013-12-23T22:49:00Z</dcterms:modified>
  <cp:revision>20</cp:revision>
  <dc:subject/>
  <dc:title>Методы работы с трудными детьми</dc:title>
</cp:coreProperties>
</file>